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位置与方向（二）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324000" y="200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方向和距离确定物体的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8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6856560" y="4221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57120" y="6037200"/>
            <a:ext cx="8358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你会在地图上辨别东南西北四个方向吗？（学生指图说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未标题-1"/>
          <p:cNvPicPr/>
          <p:nvPr/>
        </p:nvPicPr>
        <p:blipFill>
          <a:blip r:embed="rId2"/>
          <a:stretch/>
        </p:blipFill>
        <p:spPr>
          <a:xfrm>
            <a:off x="1380960" y="1465200"/>
            <a:ext cx="5712120" cy="485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5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428760" y="5138280"/>
            <a:ext cx="3495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20"/>
          <p:cNvPicPr/>
          <p:nvPr/>
        </p:nvPicPr>
        <p:blipFill>
          <a:blip r:embed="rId2"/>
          <a:stretch/>
        </p:blipFill>
        <p:spPr>
          <a:xfrm>
            <a:off x="539640" y="1557360"/>
            <a:ext cx="4516560" cy="25210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7"/>
          <p:cNvSpPr/>
          <p:nvPr/>
        </p:nvSpPr>
        <p:spPr>
          <a:xfrm>
            <a:off x="4284720" y="2565360"/>
            <a:ext cx="4537080" cy="811800"/>
          </a:xfrm>
          <a:prstGeom prst="wedgeRoundRectCallout">
            <a:avLst>
              <a:gd name="adj1" fmla="val -36500"/>
              <a:gd name="adj2" fmla="val -12012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目前台风中心位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东偏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向、距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洋面上，正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的速度沿直线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7072560" y="21337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4368240" y="1790280"/>
            <a:ext cx="257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东偏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 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6"/>
          <p:cNvSpPr/>
          <p:nvPr/>
        </p:nvSpPr>
        <p:spPr>
          <a:xfrm>
            <a:off x="4086360" y="2274480"/>
            <a:ext cx="5732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动画，说说你对东偏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 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4086360" y="2788560"/>
            <a:ext cx="43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说出红色线表示的方向吗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4086360" y="3282480"/>
            <a:ext cx="5257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动画，说说你对西偏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 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4121280" y="3787200"/>
            <a:ext cx="504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个方向有什么相同点和不同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0920" y="3367080"/>
            <a:ext cx="1908000" cy="1185840"/>
            <a:chOff x="250920" y="3367080"/>
            <a:chExt cx="1908000" cy="1185840"/>
          </a:xfrm>
        </p:grpSpPr>
        <p:grpSp>
          <p:nvGrpSpPr>
            <p:cNvPr id="59" name=""/>
            <p:cNvGrpSpPr/>
            <p:nvPr/>
          </p:nvGrpSpPr>
          <p:grpSpPr>
            <a:xfrm>
              <a:off x="250920" y="3480840"/>
              <a:ext cx="1848600" cy="1072080"/>
              <a:chOff x="250920" y="3480840"/>
              <a:chExt cx="1848600" cy="1072080"/>
            </a:xfrm>
          </p:grpSpPr>
          <p:sp>
            <p:nvSpPr>
              <p:cNvPr id="60" name="Line 51"/>
              <p:cNvSpPr/>
              <p:nvPr/>
            </p:nvSpPr>
            <p:spPr>
              <a:xfrm flipH="1">
                <a:off x="250920" y="3484080"/>
                <a:ext cx="1848600" cy="1068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rc 52"/>
              <p:cNvSpPr/>
              <p:nvPr/>
            </p:nvSpPr>
            <p:spPr>
              <a:xfrm flipH="1" rot="18972000">
                <a:off x="1769760" y="3482640"/>
                <a:ext cx="71280" cy="162000"/>
              </a:xfrm>
              <a:prstGeom prst="pi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53"/>
            <p:cNvSpPr/>
            <p:nvPr/>
          </p:nvSpPr>
          <p:spPr>
            <a:xfrm>
              <a:off x="1222560" y="3367080"/>
              <a:ext cx="936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55600" y="1547640"/>
            <a:ext cx="3968640" cy="3778920"/>
            <a:chOff x="255600" y="1547640"/>
            <a:chExt cx="3968640" cy="3778920"/>
          </a:xfrm>
        </p:grpSpPr>
        <p:grpSp>
          <p:nvGrpSpPr>
            <p:cNvPr id="64" name=""/>
            <p:cNvGrpSpPr/>
            <p:nvPr/>
          </p:nvGrpSpPr>
          <p:grpSpPr>
            <a:xfrm>
              <a:off x="255600" y="1547640"/>
              <a:ext cx="3968640" cy="3778920"/>
              <a:chOff x="255600" y="1547640"/>
              <a:chExt cx="3968640" cy="37789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55600" y="1547640"/>
                <a:ext cx="3968640" cy="3778920"/>
                <a:chOff x="255600" y="1547640"/>
                <a:chExt cx="3968640" cy="3778920"/>
              </a:xfrm>
            </p:grpSpPr>
            <p:sp>
              <p:nvSpPr>
                <p:cNvPr id="66" name="Arc 21"/>
                <p:cNvSpPr/>
                <p:nvPr/>
              </p:nvSpPr>
              <p:spPr>
                <a:xfrm rot="2628000">
                  <a:off x="2412720" y="3482280"/>
                  <a:ext cx="71280" cy="15732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Text Box 26"/>
                <p:cNvSpPr/>
                <p:nvPr/>
              </p:nvSpPr>
              <p:spPr>
                <a:xfrm>
                  <a:off x="828720" y="4572000"/>
                  <a:ext cx="1224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50"/>
                <p:cNvSpPr/>
                <p:nvPr/>
              </p:nvSpPr>
              <p:spPr>
                <a:xfrm>
                  <a:off x="2548080" y="3400200"/>
                  <a:ext cx="934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255600" y="1547640"/>
                  <a:ext cx="3968640" cy="3778920"/>
                  <a:chOff x="255600" y="1547640"/>
                  <a:chExt cx="3968640" cy="3778920"/>
                </a:xfrm>
              </p:grpSpPr>
              <p:grpSp>
                <p:nvGrpSpPr>
                  <p:cNvPr id="70" name=""/>
                  <p:cNvGrpSpPr/>
                  <p:nvPr/>
                </p:nvGrpSpPr>
                <p:grpSpPr>
                  <a:xfrm>
                    <a:off x="636120" y="1960560"/>
                    <a:ext cx="3024360" cy="3024000"/>
                    <a:chOff x="636120" y="1960560"/>
                    <a:chExt cx="3024360" cy="3024000"/>
                  </a:xfrm>
                </p:grpSpPr>
                <p:sp>
                  <p:nvSpPr>
                    <p:cNvPr id="71" name="Line 16"/>
                    <p:cNvSpPr/>
                    <p:nvPr/>
                  </p:nvSpPr>
                  <p:spPr>
                    <a:xfrm>
                      <a:off x="2125440" y="1960560"/>
                      <a:ext cx="0" cy="3024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Line 17"/>
                    <p:cNvSpPr/>
                    <p:nvPr/>
                  </p:nvSpPr>
                  <p:spPr>
                    <a:xfrm flipH="1">
                      <a:off x="636120" y="3471480"/>
                      <a:ext cx="302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" name="Text Box 54"/>
                  <p:cNvSpPr/>
                  <p:nvPr/>
                </p:nvSpPr>
                <p:spPr>
                  <a:xfrm>
                    <a:off x="3575160" y="3193920"/>
                    <a:ext cx="649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东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Text Box 55"/>
                  <p:cNvSpPr/>
                  <p:nvPr/>
                </p:nvSpPr>
                <p:spPr>
                  <a:xfrm>
                    <a:off x="1874880" y="1547640"/>
                    <a:ext cx="649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56"/>
                  <p:cNvSpPr/>
                  <p:nvPr/>
                </p:nvSpPr>
                <p:spPr>
                  <a:xfrm>
                    <a:off x="255600" y="3184200"/>
                    <a:ext cx="6494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西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57"/>
                  <p:cNvSpPr/>
                  <p:nvPr/>
                </p:nvSpPr>
                <p:spPr>
                  <a:xfrm>
                    <a:off x="1908360" y="4903560"/>
                    <a:ext cx="649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" name="Line 65"/>
              <p:cNvSpPr/>
              <p:nvPr/>
            </p:nvSpPr>
            <p:spPr>
              <a:xfrm flipH="1" flipV="1">
                <a:off x="2104920" y="3465000"/>
                <a:ext cx="186948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973080" y="4920840"/>
              <a:ext cx="360360" cy="73440"/>
              <a:chOff x="973080" y="4920840"/>
              <a:chExt cx="360360" cy="73440"/>
            </a:xfrm>
          </p:grpSpPr>
          <p:sp>
            <p:nvSpPr>
              <p:cNvPr id="79" name="Line 22"/>
              <p:cNvSpPr/>
              <p:nvPr/>
            </p:nvSpPr>
            <p:spPr>
              <a:xfrm>
                <a:off x="973080" y="499428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3"/>
              <p:cNvSpPr/>
              <p:nvPr/>
            </p:nvSpPr>
            <p:spPr>
              <a:xfrm flipV="1">
                <a:off x="973080" y="4920840"/>
                <a:ext cx="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 flipV="1">
                <a:off x="1326960" y="4920840"/>
                <a:ext cx="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 Box 68"/>
          <p:cNvSpPr/>
          <p:nvPr/>
        </p:nvSpPr>
        <p:spPr>
          <a:xfrm>
            <a:off x="4235760" y="4365720"/>
            <a:ext cx="72936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风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587520" y="285840"/>
            <a:ext cx="8400960" cy="6286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3640" y="284040"/>
            <a:ext cx="83710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6"/>
          <p:cNvSpPr/>
          <p:nvPr/>
        </p:nvSpPr>
        <p:spPr>
          <a:xfrm>
            <a:off x="3708360" y="2168640"/>
            <a:ext cx="504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只考虑方向这个条件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确定台风中心的具体位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"/>
          <p:cNvSpPr/>
          <p:nvPr/>
        </p:nvSpPr>
        <p:spPr>
          <a:xfrm>
            <a:off x="4275000" y="3669840"/>
            <a:ext cx="4000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认为还需要什么条件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4284720" y="4496040"/>
            <a:ext cx="4390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图上你能找到台风中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具体位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4284720" y="5260320"/>
            <a:ext cx="431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台风大约多少小时后到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4398840" y="2867040"/>
            <a:ext cx="450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不能，这个条件只能确定台风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位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的具体方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475160" y="4046040"/>
            <a:ext cx="4000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还需要知道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距离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8000" y="2637000"/>
            <a:ext cx="3968640" cy="3778920"/>
            <a:chOff x="108000" y="2637000"/>
            <a:chExt cx="3968640" cy="3778920"/>
          </a:xfrm>
        </p:grpSpPr>
        <p:grpSp>
          <p:nvGrpSpPr>
            <p:cNvPr id="92" name=""/>
            <p:cNvGrpSpPr/>
            <p:nvPr/>
          </p:nvGrpSpPr>
          <p:grpSpPr>
            <a:xfrm>
              <a:off x="108000" y="2637000"/>
              <a:ext cx="3968640" cy="3778920"/>
              <a:chOff x="108000" y="2637000"/>
              <a:chExt cx="3968640" cy="37789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08000" y="2637000"/>
                <a:ext cx="3968640" cy="3778920"/>
                <a:chOff x="108000" y="2637000"/>
                <a:chExt cx="3968640" cy="3778920"/>
              </a:xfrm>
            </p:grpSpPr>
            <p:sp>
              <p:nvSpPr>
                <p:cNvPr id="94" name="Arc 89"/>
                <p:cNvSpPr/>
                <p:nvPr/>
              </p:nvSpPr>
              <p:spPr>
                <a:xfrm rot="2628000">
                  <a:off x="2265120" y="4571640"/>
                  <a:ext cx="71280" cy="157320"/>
                </a:xfrm>
                <a:prstGeom prst="pie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 Box 90"/>
                <p:cNvSpPr/>
                <p:nvPr/>
              </p:nvSpPr>
              <p:spPr>
                <a:xfrm>
                  <a:off x="681120" y="5661360"/>
                  <a:ext cx="1224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0k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91"/>
                <p:cNvSpPr/>
                <p:nvPr/>
              </p:nvSpPr>
              <p:spPr>
                <a:xfrm>
                  <a:off x="2400480" y="4489560"/>
                  <a:ext cx="934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108000" y="2637000"/>
                  <a:ext cx="3968640" cy="3778920"/>
                  <a:chOff x="108000" y="2637000"/>
                  <a:chExt cx="3968640" cy="3778920"/>
                </a:xfrm>
              </p:grpSpPr>
              <p:grpSp>
                <p:nvGrpSpPr>
                  <p:cNvPr id="98" name=""/>
                  <p:cNvGrpSpPr/>
                  <p:nvPr/>
                </p:nvGrpSpPr>
                <p:grpSpPr>
                  <a:xfrm>
                    <a:off x="488520" y="3049920"/>
                    <a:ext cx="3024360" cy="3024000"/>
                    <a:chOff x="488520" y="3049920"/>
                    <a:chExt cx="3024360" cy="3024000"/>
                  </a:xfrm>
                </p:grpSpPr>
                <p:sp>
                  <p:nvSpPr>
                    <p:cNvPr id="99" name="Line 94"/>
                    <p:cNvSpPr/>
                    <p:nvPr/>
                  </p:nvSpPr>
                  <p:spPr>
                    <a:xfrm>
                      <a:off x="1977840" y="3049920"/>
                      <a:ext cx="0" cy="3024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Line 95"/>
                    <p:cNvSpPr/>
                    <p:nvPr/>
                  </p:nvSpPr>
                  <p:spPr>
                    <a:xfrm flipH="1">
                      <a:off x="488520" y="4560840"/>
                      <a:ext cx="302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" name="Text Box 96"/>
                  <p:cNvSpPr/>
                  <p:nvPr/>
                </p:nvSpPr>
                <p:spPr>
                  <a:xfrm>
                    <a:off x="3427560" y="4283280"/>
                    <a:ext cx="649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东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Text Box 97"/>
                  <p:cNvSpPr/>
                  <p:nvPr/>
                </p:nvSpPr>
                <p:spPr>
                  <a:xfrm>
                    <a:off x="1727280" y="2637000"/>
                    <a:ext cx="649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Text Box 98"/>
                  <p:cNvSpPr/>
                  <p:nvPr/>
                </p:nvSpPr>
                <p:spPr>
                  <a:xfrm>
                    <a:off x="108000" y="4273560"/>
                    <a:ext cx="6494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西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Text Box 99"/>
                  <p:cNvSpPr/>
                  <p:nvPr/>
                </p:nvSpPr>
                <p:spPr>
                  <a:xfrm>
                    <a:off x="1760760" y="5992920"/>
                    <a:ext cx="649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5" name="Line 100"/>
              <p:cNvSpPr/>
              <p:nvPr/>
            </p:nvSpPr>
            <p:spPr>
              <a:xfrm flipH="1" flipV="1">
                <a:off x="1957320" y="4554720"/>
                <a:ext cx="1869480" cy="10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25480" y="6010200"/>
              <a:ext cx="360360" cy="73440"/>
              <a:chOff x="825480" y="6010200"/>
              <a:chExt cx="360360" cy="73440"/>
            </a:xfrm>
          </p:grpSpPr>
          <p:sp>
            <p:nvSpPr>
              <p:cNvPr id="107" name="Line 102"/>
              <p:cNvSpPr/>
              <p:nvPr/>
            </p:nvSpPr>
            <p:spPr>
              <a:xfrm>
                <a:off x="825480" y="608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3"/>
              <p:cNvSpPr/>
              <p:nvPr/>
            </p:nvSpPr>
            <p:spPr>
              <a:xfrm flipV="1">
                <a:off x="825480" y="6010200"/>
                <a:ext cx="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04"/>
              <p:cNvSpPr/>
              <p:nvPr/>
            </p:nvSpPr>
            <p:spPr>
              <a:xfrm flipV="1">
                <a:off x="1179360" y="6010200"/>
                <a:ext cx="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08000" y="2637000"/>
            <a:ext cx="3968640" cy="3778920"/>
            <a:chOff x="108000" y="2637000"/>
            <a:chExt cx="3968640" cy="3778920"/>
          </a:xfrm>
        </p:grpSpPr>
        <p:sp>
          <p:nvSpPr>
            <p:cNvPr id="111" name="Text Box 105"/>
            <p:cNvSpPr/>
            <p:nvPr/>
          </p:nvSpPr>
          <p:spPr>
            <a:xfrm>
              <a:off x="2197080" y="4988160"/>
              <a:ext cx="1081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08000" y="2637000"/>
              <a:ext cx="3968640" cy="3778920"/>
              <a:chOff x="108000" y="2637000"/>
              <a:chExt cx="3968640" cy="37789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08000" y="2637000"/>
                <a:ext cx="3968640" cy="3778920"/>
                <a:chOff x="108000" y="2637000"/>
                <a:chExt cx="3968640" cy="377892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2588040" y="4846680"/>
                  <a:ext cx="312120" cy="245880"/>
                  <a:chOff x="2588040" y="4846680"/>
                  <a:chExt cx="312120" cy="245880"/>
                </a:xfrm>
              </p:grpSpPr>
              <p:sp>
                <p:nvSpPr>
                  <p:cNvPr id="115" name="Line 26"/>
                  <p:cNvSpPr/>
                  <p:nvPr/>
                </p:nvSpPr>
                <p:spPr>
                  <a:xfrm>
                    <a:off x="2588040" y="4912200"/>
                    <a:ext cx="312120" cy="18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27"/>
                  <p:cNvSpPr/>
                  <p:nvPr/>
                </p:nvSpPr>
                <p:spPr>
                  <a:xfrm flipV="1">
                    <a:off x="2598480" y="4846680"/>
                    <a:ext cx="36360" cy="63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108000" y="2637000"/>
                  <a:ext cx="3968640" cy="3778920"/>
                  <a:chOff x="108000" y="2637000"/>
                  <a:chExt cx="3968640" cy="377892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894400" y="5019840"/>
                    <a:ext cx="312120" cy="245520"/>
                    <a:chOff x="2894400" y="5019840"/>
                    <a:chExt cx="312120" cy="245520"/>
                  </a:xfrm>
                </p:grpSpPr>
                <p:sp>
                  <p:nvSpPr>
                    <p:cNvPr id="119" name="Line 29"/>
                    <p:cNvSpPr/>
                    <p:nvPr/>
                  </p:nvSpPr>
                  <p:spPr>
                    <a:xfrm>
                      <a:off x="2894400" y="5085360"/>
                      <a:ext cx="312120" cy="18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Line 30"/>
                    <p:cNvSpPr/>
                    <p:nvPr/>
                  </p:nvSpPr>
                  <p:spPr>
                    <a:xfrm flipV="1">
                      <a:off x="2904840" y="501984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207240" y="5197680"/>
                    <a:ext cx="312120" cy="245880"/>
                    <a:chOff x="3207240" y="5197680"/>
                    <a:chExt cx="312120" cy="245880"/>
                  </a:xfrm>
                </p:grpSpPr>
                <p:sp>
                  <p:nvSpPr>
                    <p:cNvPr id="122" name="Line 32"/>
                    <p:cNvSpPr/>
                    <p:nvPr/>
                  </p:nvSpPr>
                  <p:spPr>
                    <a:xfrm>
                      <a:off x="3207240" y="526320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33"/>
                    <p:cNvSpPr/>
                    <p:nvPr/>
                  </p:nvSpPr>
                  <p:spPr>
                    <a:xfrm flipV="1">
                      <a:off x="3217680" y="519768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3495960" y="5364360"/>
                    <a:ext cx="312120" cy="245880"/>
                    <a:chOff x="3495960" y="5364360"/>
                    <a:chExt cx="312120" cy="245880"/>
                  </a:xfrm>
                </p:grpSpPr>
                <p:sp>
                  <p:nvSpPr>
                    <p:cNvPr id="125" name="Line 35"/>
                    <p:cNvSpPr/>
                    <p:nvPr/>
                  </p:nvSpPr>
                  <p:spPr>
                    <a:xfrm>
                      <a:off x="3495960" y="542988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6"/>
                    <p:cNvSpPr/>
                    <p:nvPr/>
                  </p:nvSpPr>
                  <p:spPr>
                    <a:xfrm flipV="1">
                      <a:off x="3506400" y="536436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108000" y="2637000"/>
                    <a:ext cx="3968640" cy="3778920"/>
                    <a:chOff x="108000" y="2637000"/>
                    <a:chExt cx="3968640" cy="3778920"/>
                  </a:xfrm>
                </p:grpSpPr>
                <p:sp>
                  <p:nvSpPr>
                    <p:cNvPr id="128" name="Arc 39"/>
                    <p:cNvSpPr/>
                    <p:nvPr/>
                  </p:nvSpPr>
                  <p:spPr>
                    <a:xfrm rot="2628000">
                      <a:off x="2265120" y="4571640"/>
                      <a:ext cx="71280" cy="157320"/>
                    </a:xfrm>
                    <a:prstGeom prst="pi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Text Box 40"/>
                    <p:cNvSpPr/>
                    <p:nvPr/>
                  </p:nvSpPr>
                  <p:spPr>
                    <a:xfrm>
                      <a:off x="681120" y="5661360"/>
                      <a:ext cx="1224000" cy="385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Text Box 41"/>
                    <p:cNvSpPr/>
                    <p:nvPr/>
                  </p:nvSpPr>
                  <p:spPr>
                    <a:xfrm>
                      <a:off x="2400480" y="4489560"/>
                      <a:ext cx="9349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1" name=""/>
                    <p:cNvGrpSpPr/>
                    <p:nvPr/>
                  </p:nvGrpSpPr>
                  <p:grpSpPr>
                    <a:xfrm>
                      <a:off x="108000" y="2637000"/>
                      <a:ext cx="3968640" cy="3778920"/>
                      <a:chOff x="108000" y="2637000"/>
                      <a:chExt cx="3968640" cy="3778920"/>
                    </a:xfrm>
                  </p:grpSpPr>
                  <p:grpSp>
                    <p:nvGrpSpPr>
                      <p:cNvPr id="132" name=""/>
                      <p:cNvGrpSpPr/>
                      <p:nvPr/>
                    </p:nvGrpSpPr>
                    <p:grpSpPr>
                      <a:xfrm>
                        <a:off x="488520" y="3049920"/>
                        <a:ext cx="3024360" cy="3024000"/>
                        <a:chOff x="488520" y="3049920"/>
                        <a:chExt cx="3024360" cy="3024000"/>
                      </a:xfrm>
                    </p:grpSpPr>
                    <p:sp>
                      <p:nvSpPr>
                        <p:cNvPr id="133" name="Line 44"/>
                        <p:cNvSpPr/>
                        <p:nvPr/>
                      </p:nvSpPr>
                      <p:spPr>
                        <a:xfrm>
                          <a:off x="1977840" y="3049920"/>
                          <a:ext cx="0" cy="30240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45"/>
                        <p:cNvSpPr/>
                        <p:nvPr/>
                      </p:nvSpPr>
                      <p:spPr>
                        <a:xfrm flipH="1">
                          <a:off x="488520" y="4560840"/>
                          <a:ext cx="302436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5" name="Text Box 46"/>
                      <p:cNvSpPr/>
                      <p:nvPr/>
                    </p:nvSpPr>
                    <p:spPr>
                      <a:xfrm>
                        <a:off x="3427560" y="4283280"/>
                        <a:ext cx="64908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东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Text Box 47"/>
                      <p:cNvSpPr/>
                      <p:nvPr/>
                    </p:nvSpPr>
                    <p:spPr>
                      <a:xfrm>
                        <a:off x="1727280" y="2637000"/>
                        <a:ext cx="64908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Text Box 48"/>
                      <p:cNvSpPr/>
                      <p:nvPr/>
                    </p:nvSpPr>
                    <p:spPr>
                      <a:xfrm>
                        <a:off x="108000" y="4273560"/>
                        <a:ext cx="64944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西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Text Box 49"/>
                      <p:cNvSpPr/>
                      <p:nvPr/>
                    </p:nvSpPr>
                    <p:spPr>
                      <a:xfrm>
                        <a:off x="1760760" y="5992920"/>
                        <a:ext cx="649080" cy="423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9" name="Oval 107"/>
                  <p:cNvSpPr/>
                  <p:nvPr/>
                </p:nvSpPr>
                <p:spPr>
                  <a:xfrm>
                    <a:off x="3791160" y="5554800"/>
                    <a:ext cx="71280" cy="7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825480" y="4158000"/>
                <a:ext cx="2189160" cy="1925640"/>
                <a:chOff x="825480" y="4158000"/>
                <a:chExt cx="2189160" cy="1925640"/>
              </a:xfrm>
            </p:grpSpPr>
            <p:sp>
              <p:nvSpPr>
                <p:cNvPr id="141" name="Line 21"/>
                <p:cNvSpPr/>
                <p:nvPr/>
              </p:nvSpPr>
              <p:spPr>
                <a:xfrm>
                  <a:off x="1983240" y="4566600"/>
                  <a:ext cx="312120" cy="18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825480" y="4158000"/>
                  <a:ext cx="2189160" cy="1925640"/>
                  <a:chOff x="825480" y="4158000"/>
                  <a:chExt cx="2189160" cy="1925640"/>
                </a:xfrm>
              </p:grpSpPr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825480" y="6010200"/>
                    <a:ext cx="360360" cy="73440"/>
                    <a:chOff x="825480" y="6010200"/>
                    <a:chExt cx="360360" cy="73440"/>
                  </a:xfrm>
                </p:grpSpPr>
                <p:sp>
                  <p:nvSpPr>
                    <p:cNvPr id="144" name="Line 16"/>
                    <p:cNvSpPr/>
                    <p:nvPr/>
                  </p:nvSpPr>
                  <p:spPr>
                    <a:xfrm>
                      <a:off x="825480" y="608364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17"/>
                    <p:cNvSpPr/>
                    <p:nvPr/>
                  </p:nvSpPr>
                  <p:spPr>
                    <a:xfrm flipV="1">
                      <a:off x="825480" y="601020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18"/>
                    <p:cNvSpPr/>
                    <p:nvPr/>
                  </p:nvSpPr>
                  <p:spPr>
                    <a:xfrm flipV="1">
                      <a:off x="1179360" y="601020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275200" y="4669200"/>
                    <a:ext cx="312120" cy="245880"/>
                    <a:chOff x="2275200" y="4669200"/>
                    <a:chExt cx="312120" cy="245880"/>
                  </a:xfrm>
                </p:grpSpPr>
                <p:sp>
                  <p:nvSpPr>
                    <p:cNvPr id="148" name="Line 23"/>
                    <p:cNvSpPr/>
                    <p:nvPr/>
                  </p:nvSpPr>
                  <p:spPr>
                    <a:xfrm>
                      <a:off x="2275200" y="473472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24"/>
                    <p:cNvSpPr/>
                    <p:nvPr/>
                  </p:nvSpPr>
                  <p:spPr>
                    <a:xfrm flipV="1">
                      <a:off x="2285640" y="466920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" name="Text Box 106"/>
                  <p:cNvSpPr/>
                  <p:nvPr/>
                </p:nvSpPr>
                <p:spPr>
                  <a:xfrm>
                    <a:off x="1933560" y="4158000"/>
                    <a:ext cx="1081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市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1" name="Text Box 114"/>
          <p:cNvSpPr/>
          <p:nvPr/>
        </p:nvSpPr>
        <p:spPr>
          <a:xfrm>
            <a:off x="4091400" y="5661000"/>
            <a:ext cx="729360" cy="4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风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684360" y="1612440"/>
            <a:ext cx="6357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22"/>
          <p:cNvPicPr/>
          <p:nvPr/>
        </p:nvPicPr>
        <p:blipFill>
          <a:blip r:embed="rId2"/>
          <a:stretch/>
        </p:blipFill>
        <p:spPr>
          <a:xfrm>
            <a:off x="1979640" y="1590840"/>
            <a:ext cx="4278240" cy="2877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826920" y="4489560"/>
            <a:ext cx="7561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学校在小明家北偏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上，距离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书店在小明家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偏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上，距离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邮局在小明家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偏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上，距离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游泳馆在小明家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偏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上，距离是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660840" y="444168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227480" y="4484520"/>
            <a:ext cx="79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491160" y="4489560"/>
            <a:ext cx="72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156120" y="479592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851280" y="478620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405320" y="4824360"/>
            <a:ext cx="79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607080" y="4843440"/>
            <a:ext cx="72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132000" y="516240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851280" y="517032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4408560" y="5184720"/>
            <a:ext cx="79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611760" y="5203800"/>
            <a:ext cx="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3348000" y="554508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4019400" y="555480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552920" y="5573880"/>
            <a:ext cx="79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6723000" y="5589720"/>
            <a:ext cx="720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728856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17"/>
          <p:cNvSpPr/>
          <p:nvPr/>
        </p:nvSpPr>
        <p:spPr>
          <a:xfrm>
            <a:off x="1638360" y="3635280"/>
            <a:ext cx="115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30440" y="3174840"/>
            <a:ext cx="1224000" cy="1224000"/>
            <a:chOff x="1630440" y="3174840"/>
            <a:chExt cx="1224000" cy="1224000"/>
          </a:xfrm>
        </p:grpSpPr>
        <p:sp>
          <p:nvSpPr>
            <p:cNvPr id="176" name="Line 114"/>
            <p:cNvSpPr/>
            <p:nvPr/>
          </p:nvSpPr>
          <p:spPr>
            <a:xfrm>
              <a:off x="1630440" y="3754440"/>
              <a:ext cx="122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5"/>
            <p:cNvSpPr/>
            <p:nvPr/>
          </p:nvSpPr>
          <p:spPr>
            <a:xfrm flipV="1">
              <a:off x="2230560" y="3174840"/>
              <a:ext cx="0" cy="12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684360" y="1612440"/>
            <a:ext cx="6357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065240" y="1576440"/>
            <a:ext cx="8172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找一幅中国地图，量一量，说一说北京在哈尔滨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　      　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向上，哈尔滨在北京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　   　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方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3"/>
          <p:cNvSpPr/>
          <p:nvPr/>
        </p:nvSpPr>
        <p:spPr>
          <a:xfrm>
            <a:off x="2195640" y="3716280"/>
            <a:ext cx="7272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84440" y="2824200"/>
            <a:ext cx="1224000" cy="1224000"/>
            <a:chOff x="3484440" y="2824200"/>
            <a:chExt cx="1224000" cy="1224000"/>
          </a:xfrm>
        </p:grpSpPr>
        <p:sp>
          <p:nvSpPr>
            <p:cNvPr id="183" name="Line 119"/>
            <p:cNvSpPr/>
            <p:nvPr/>
          </p:nvSpPr>
          <p:spPr>
            <a:xfrm>
              <a:off x="3484440" y="3403800"/>
              <a:ext cx="122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0"/>
            <p:cNvSpPr/>
            <p:nvPr/>
          </p:nvSpPr>
          <p:spPr>
            <a:xfrm flipV="1">
              <a:off x="4084560" y="2824200"/>
              <a:ext cx="0" cy="12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21"/>
          <p:cNvSpPr/>
          <p:nvPr/>
        </p:nvSpPr>
        <p:spPr>
          <a:xfrm>
            <a:off x="4043520" y="2968560"/>
            <a:ext cx="115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哈尔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2"/>
          <p:cNvSpPr/>
          <p:nvPr/>
        </p:nvSpPr>
        <p:spPr>
          <a:xfrm>
            <a:off x="4048200" y="3367080"/>
            <a:ext cx="730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3"/>
          <p:cNvSpPr/>
          <p:nvPr/>
        </p:nvSpPr>
        <p:spPr>
          <a:xfrm flipV="1">
            <a:off x="2229840" y="3396240"/>
            <a:ext cx="1860120" cy="36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5"/>
          <p:cNvSpPr/>
          <p:nvPr/>
        </p:nvSpPr>
        <p:spPr>
          <a:xfrm flipV="1">
            <a:off x="5435640" y="27082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6"/>
          <p:cNvSpPr/>
          <p:nvPr/>
        </p:nvSpPr>
        <p:spPr>
          <a:xfrm>
            <a:off x="5397480" y="2708280"/>
            <a:ext cx="4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9"/>
          <p:cNvSpPr/>
          <p:nvPr/>
        </p:nvSpPr>
        <p:spPr>
          <a:xfrm>
            <a:off x="6815160" y="1579680"/>
            <a:ext cx="1727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西偏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2"/>
          <p:cNvSpPr/>
          <p:nvPr/>
        </p:nvSpPr>
        <p:spPr>
          <a:xfrm>
            <a:off x="3781440" y="1944720"/>
            <a:ext cx="1727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东偏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104840" y="2362320"/>
            <a:ext cx="79311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35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